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5947-7AFD-4791-BB6E-F3093A0E9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C079-600B-4CE6-8BC3-3A453A53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4E1C-DBE8-4533-B68C-6D0772AC1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77E6-3C98-4603-A832-ECE37392E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8665-A615-4A0F-B591-9C54353D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D69D-02A6-4BE4-A84A-8BB39D65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6807-FE00-475D-A5E4-A0E34AD6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2662-3CE9-494F-A407-982259FC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E6EC-04E3-40F7-B86D-251AC5B5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205F-AD9E-491B-97B6-006D81CD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7C77-4054-4AFA-8989-164683FE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74F7-80A4-4243-BE2E-EAAAC755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78F2AA-CA0D-4F52-975D-E9FDE801C049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8.wmf"/><Relationship Id="rId21" Type="http://schemas.openxmlformats.org/officeDocument/2006/relationships/image" Target="../media/image9.wmf"/><Relationship Id="rId22" Type="http://schemas.openxmlformats.org/officeDocument/2006/relationships/image" Target="../media/image9.wmf"/><Relationship Id="rId23" Type="http://schemas.openxmlformats.org/officeDocument/2006/relationships/image" Target="../media/image10.wmf"/><Relationship Id="rId2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8.wmf"/><Relationship Id="rId21" Type="http://schemas.openxmlformats.org/officeDocument/2006/relationships/image" Target="../media/image9.wmf"/><Relationship Id="rId22" Type="http://schemas.openxmlformats.org/officeDocument/2006/relationships/image" Target="../media/image9.wmf"/><Relationship Id="rId23" Type="http://schemas.openxmlformats.org/officeDocument/2006/relationships/image" Target="../media/image10.wmf"/><Relationship Id="rId2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8.wmf"/><Relationship Id="rId21" Type="http://schemas.openxmlformats.org/officeDocument/2006/relationships/image" Target="../media/image9.wmf"/><Relationship Id="rId22" Type="http://schemas.openxmlformats.org/officeDocument/2006/relationships/image" Target="../media/image9.wmf"/><Relationship Id="rId23" Type="http://schemas.openxmlformats.org/officeDocument/2006/relationships/image" Target="../media/image10.wmf"/><Relationship Id="rId2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8.wmf"/><Relationship Id="rId21" Type="http://schemas.openxmlformats.org/officeDocument/2006/relationships/image" Target="../media/image9.wmf"/><Relationship Id="rId22" Type="http://schemas.openxmlformats.org/officeDocument/2006/relationships/image" Target="../media/image9.wmf"/><Relationship Id="rId23" Type="http://schemas.openxmlformats.org/officeDocument/2006/relationships/image" Target="../media/image10.wmf"/><Relationship Id="rId2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8.wmf"/><Relationship Id="rId21" Type="http://schemas.openxmlformats.org/officeDocument/2006/relationships/image" Target="../media/image9.wmf"/><Relationship Id="rId22" Type="http://schemas.openxmlformats.org/officeDocument/2006/relationships/image" Target="../media/image9.wmf"/><Relationship Id="rId23" Type="http://schemas.openxmlformats.org/officeDocument/2006/relationships/image" Target="../media/image10.wmf"/><Relationship Id="rId2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8.wmf"/><Relationship Id="rId21" Type="http://schemas.openxmlformats.org/officeDocument/2006/relationships/image" Target="../media/image9.wmf"/><Relationship Id="rId22" Type="http://schemas.openxmlformats.org/officeDocument/2006/relationships/image" Target="../media/image9.wmf"/><Relationship Id="rId23" Type="http://schemas.openxmlformats.org/officeDocument/2006/relationships/image" Target="../media/image10.wmf"/><Relationship Id="rId2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8.wmf"/><Relationship Id="rId21" Type="http://schemas.openxmlformats.org/officeDocument/2006/relationships/image" Target="../media/image9.wmf"/><Relationship Id="rId22" Type="http://schemas.openxmlformats.org/officeDocument/2006/relationships/image" Target="../media/image9.wmf"/><Relationship Id="rId23" Type="http://schemas.openxmlformats.org/officeDocument/2006/relationships/image" Target="../media/image10.wmf"/><Relationship Id="rId2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8.wmf"/><Relationship Id="rId21" Type="http://schemas.openxmlformats.org/officeDocument/2006/relationships/image" Target="../media/image9.wmf"/><Relationship Id="rId22" Type="http://schemas.openxmlformats.org/officeDocument/2006/relationships/image" Target="../media/image9.wmf"/><Relationship Id="rId23" Type="http://schemas.openxmlformats.org/officeDocument/2006/relationships/image" Target="../media/image10.wmf"/><Relationship Id="rId2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8.wmf"/><Relationship Id="rId21" Type="http://schemas.openxmlformats.org/officeDocument/2006/relationships/image" Target="../media/image9.wmf"/><Relationship Id="rId22" Type="http://schemas.openxmlformats.org/officeDocument/2006/relationships/image" Target="../media/image9.wmf"/><Relationship Id="rId23" Type="http://schemas.openxmlformats.org/officeDocument/2006/relationships/image" Target="../media/image10.wmf"/><Relationship Id="rId2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8.wmf"/><Relationship Id="rId21" Type="http://schemas.openxmlformats.org/officeDocument/2006/relationships/image" Target="../media/image9.wmf"/><Relationship Id="rId22" Type="http://schemas.openxmlformats.org/officeDocument/2006/relationships/image" Target="../media/image9.wmf"/><Relationship Id="rId23" Type="http://schemas.openxmlformats.org/officeDocument/2006/relationships/image" Target="../media/image10.wmf"/><Relationship Id="rId2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8.wmf"/><Relationship Id="rId21" Type="http://schemas.openxmlformats.org/officeDocument/2006/relationships/image" Target="../media/image9.wmf"/><Relationship Id="rId22" Type="http://schemas.openxmlformats.org/officeDocument/2006/relationships/image" Target="../media/image9.wmf"/><Relationship Id="rId23" Type="http://schemas.openxmlformats.org/officeDocument/2006/relationships/image" Target="../media/image10.wmf"/><Relationship Id="rId2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09120" y="152280"/>
            <a:ext cx="8077320" cy="655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X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 fábrica ( indicando lugar convenid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po de Transporte 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do tipo de transpor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 del Vendedor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ner la mercancía a disposición del comprador en el establecimiento del vendedo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e término representa la mínima obligación para el vended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 del Comprador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gir el modo de transport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portar el costo del riesgo inherente al transporte, incluyendo seguimiento en tránsito, reclamaciones, etc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fectuar el despacho de exportación de la mercancí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098720" y="1627200"/>
          <a:ext cx="966600" cy="50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8720" y="1627200"/>
                    <a:ext cx="96660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2808360" y="1703520"/>
          <a:ext cx="1224000" cy="36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08360" y="1703520"/>
                    <a:ext cx="122400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6710400" y="1627200"/>
          <a:ext cx="129060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10400" y="1627200"/>
                    <a:ext cx="1290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919760" y="1550880"/>
          <a:ext cx="947520" cy="488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19760" y="1550880"/>
                    <a:ext cx="94752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604D-0C34-4AAF-A138-DB7BCEB110B0}" type="slidenum">
              <a:t>1</a:t>
            </a:fld>
          </a:p>
        </p:txBody>
      </p:sp>
    </p:spTree>
  </p:cSld>
  <p:transition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500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6840" y="135000"/>
            <a:ext cx="9168840" cy="6724080"/>
            <a:chOff x="6840" y="135000"/>
            <a:chExt cx="9168840" cy="672408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60480" y="3030480"/>
              <a:ext cx="144756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1622160" y="135000"/>
              <a:ext cx="572508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CI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RANSFERENCIA DE LA RESPONSABILIDA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156360" y="5300640"/>
              <a:ext cx="2563920" cy="14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6" name="" descr=""/>
            <p:cNvPicPr/>
            <p:nvPr/>
          </p:nvPicPr>
          <p:blipFill>
            <a:blip r:embed="rId2"/>
            <a:stretch/>
          </p:blipFill>
          <p:spPr>
            <a:xfrm>
              <a:off x="2041560" y="3365640"/>
              <a:ext cx="838080" cy="58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3"/>
            <a:stretch/>
          </p:blipFill>
          <p:spPr>
            <a:xfrm>
              <a:off x="6918480" y="3386160"/>
              <a:ext cx="838080" cy="58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4"/>
            <a:stretch/>
          </p:blipFill>
          <p:spPr>
            <a:xfrm>
              <a:off x="7756560" y="3102120"/>
              <a:ext cx="1371600" cy="8730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59" name=""/>
            <p:cNvGraphicFramePr/>
            <p:nvPr/>
          </p:nvGraphicFramePr>
          <p:xfrm>
            <a:off x="1039680" y="1100160"/>
            <a:ext cx="1382760" cy="406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39680" y="1100160"/>
                      <a:ext cx="138276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1" name=""/>
            <p:cNvGraphicFramePr/>
            <p:nvPr/>
          </p:nvGraphicFramePr>
          <p:xfrm>
            <a:off x="1203480" y="2230560"/>
            <a:ext cx="1008000" cy="520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6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03480" y="2230560"/>
                      <a:ext cx="1008000" cy="5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3" name=""/>
            <p:cNvGraphicFramePr/>
            <p:nvPr/>
          </p:nvGraphicFramePr>
          <p:xfrm>
            <a:off x="3125880" y="3398760"/>
            <a:ext cx="287280" cy="39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6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125880" y="339876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5" name=""/>
            <p:cNvGraphicFramePr/>
            <p:nvPr/>
          </p:nvGraphicFramePr>
          <p:xfrm>
            <a:off x="3278160" y="3627360"/>
            <a:ext cx="287280" cy="393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6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78160" y="362736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7" name=""/>
            <p:cNvGraphicFramePr/>
            <p:nvPr/>
          </p:nvGraphicFramePr>
          <p:xfrm>
            <a:off x="6464160" y="3378240"/>
            <a:ext cx="303480" cy="4143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68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464160" y="3378240"/>
                      <a:ext cx="30348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9" name=""/>
            <p:cNvGraphicFramePr/>
            <p:nvPr/>
          </p:nvGraphicFramePr>
          <p:xfrm>
            <a:off x="2973240" y="3627360"/>
            <a:ext cx="287640" cy="3938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70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973240" y="3627360"/>
                      <a:ext cx="2876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1" name=""/>
            <p:cNvGraphicFramePr/>
            <p:nvPr/>
          </p:nvGraphicFramePr>
          <p:xfrm>
            <a:off x="6616800" y="3606840"/>
            <a:ext cx="301680" cy="414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72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616800" y="3606840"/>
                      <a:ext cx="30168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3" name=""/>
            <p:cNvGraphicFramePr/>
            <p:nvPr/>
          </p:nvGraphicFramePr>
          <p:xfrm>
            <a:off x="6326280" y="3614760"/>
            <a:ext cx="287280" cy="3938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74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326280" y="361476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75" name="" descr=""/>
            <p:cNvPicPr/>
            <p:nvPr/>
          </p:nvPicPr>
          <p:blipFill>
            <a:blip r:embed="rId21"/>
            <a:stretch/>
          </p:blipFill>
          <p:spPr>
            <a:xfrm>
              <a:off x="3489480" y="3100320"/>
              <a:ext cx="1439640" cy="91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22"/>
            <a:stretch/>
          </p:blipFill>
          <p:spPr>
            <a:xfrm>
              <a:off x="4861080" y="3100320"/>
              <a:ext cx="143964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1736640" y="2801880"/>
              <a:ext cx="1800" cy="114300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098960" y="5316480"/>
              <a:ext cx="4419720" cy="14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iesgo y Responsabilidad del Compra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fectuar despacho de Import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840" y="4137120"/>
              <a:ext cx="150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Vende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471080" y="4060800"/>
              <a:ext cx="170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mpra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6156360" y="4581360"/>
              <a:ext cx="1440" cy="689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955960" y="4173480"/>
              <a:ext cx="68580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41760" y="4173480"/>
              <a:ext cx="1440" cy="53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08640" y="4173480"/>
              <a:ext cx="1800" cy="53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308640" y="4173480"/>
              <a:ext cx="68580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641320" y="4189320"/>
              <a:ext cx="1002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uerto 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mbarqu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285240" y="4189320"/>
              <a:ext cx="95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uerto 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estin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86200" y="2878200"/>
              <a:ext cx="794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uan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xport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963120" y="2817720"/>
              <a:ext cx="794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uan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ort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508040" y="3944880"/>
              <a:ext cx="457200" cy="180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1" name="" descr=""/>
            <p:cNvPicPr/>
            <p:nvPr/>
          </p:nvPicPr>
          <p:blipFill>
            <a:blip r:embed="rId23"/>
            <a:stretch/>
          </p:blipFill>
          <p:spPr>
            <a:xfrm>
              <a:off x="822240" y="1506600"/>
              <a:ext cx="1555920" cy="6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 flipV="1">
              <a:off x="3794040" y="4629240"/>
              <a:ext cx="1800" cy="689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9080" y="5316480"/>
              <a:ext cx="3504960" cy="18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34080" y="5316480"/>
              <a:ext cx="3667320" cy="15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iesgo del Vende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tratar Transporte y Seguro hasta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uerto de destin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tregar en la “borda” del buqu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fectuar despacho de Expor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087960" y="2376360"/>
              <a:ext cx="1800" cy="609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05720" y="203976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I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07520" y="1049400"/>
              <a:ext cx="235836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Precio Mercancía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cluye Fletes y Segur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asta puerto de destino,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niobras hasta cruza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a borda del buqu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y Despacho de Expor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7167-BE31-4AA6-8A3D-752CEDBF2A3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685800" y="151920"/>
            <a:ext cx="7848720" cy="625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76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ctr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ctr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rte pagado hasta ( indicando el lugar de destino convenid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ipo de Transporte 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do tipo de transpor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bligaciones del Vendedor 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ratar y pagar el transporte hasta el lugar conven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fectuar el despacho de exportación de la mercanc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bligaciones del Comprador 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portar los riesgos inherentes a la mercancía desde que el Vendedor la entrega al primer transportista, así como cualquier gasto adicional en transito (descarga, daños en tránsito, etc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6329520" y="1568520"/>
          <a:ext cx="12906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9520" y="1568520"/>
                    <a:ext cx="1290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1631880" y="1541520"/>
          <a:ext cx="966960" cy="5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1880" y="1541520"/>
                    <a:ext cx="96696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3112920" y="1682640"/>
          <a:ext cx="1224000" cy="365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12920" y="1682640"/>
                    <a:ext cx="1224000" cy="3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4995720" y="1568520"/>
          <a:ext cx="947880" cy="488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95720" y="1568520"/>
                    <a:ext cx="94788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6F6D-AC11-49F5-BA9D-40D648A6904D}" type="slidenum">
              <a:t>11</a:t>
            </a:fld>
          </a:p>
        </p:txBody>
      </p:sp>
    </p:spTree>
  </p:cSld>
  <p:transition spd="slow">
    <p:cover dir="rd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"/>
          <p:cNvGrpSpPr/>
          <p:nvPr/>
        </p:nvGrpSpPr>
        <p:grpSpPr>
          <a:xfrm>
            <a:off x="22680" y="76320"/>
            <a:ext cx="9287640" cy="6846480"/>
            <a:chOff x="22680" y="76320"/>
            <a:chExt cx="9287640" cy="6846480"/>
          </a:xfrm>
        </p:grpSpPr>
        <p:pic>
          <p:nvPicPr>
            <p:cNvPr id="308" name="" descr=""/>
            <p:cNvPicPr/>
            <p:nvPr/>
          </p:nvPicPr>
          <p:blipFill>
            <a:blip r:embed="rId1"/>
            <a:stretch/>
          </p:blipFill>
          <p:spPr>
            <a:xfrm>
              <a:off x="76320" y="2971800"/>
              <a:ext cx="144756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1638000" y="76320"/>
              <a:ext cx="572508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CP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RANSFERENCIA DE LA RESPONSABILIDA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6084720" y="5258880"/>
              <a:ext cx="2678400" cy="414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1" name="" descr=""/>
            <p:cNvPicPr/>
            <p:nvPr/>
          </p:nvPicPr>
          <p:blipFill>
            <a:blip r:embed="rId2"/>
            <a:stretch/>
          </p:blipFill>
          <p:spPr>
            <a:xfrm>
              <a:off x="2057400" y="3306600"/>
              <a:ext cx="838080" cy="58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3"/>
            <a:stretch/>
          </p:blipFill>
          <p:spPr>
            <a:xfrm>
              <a:off x="6934320" y="3327480"/>
              <a:ext cx="838080" cy="58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"/>
            <p:cNvPicPr/>
            <p:nvPr/>
          </p:nvPicPr>
          <p:blipFill>
            <a:blip r:embed="rId4"/>
            <a:stretch/>
          </p:blipFill>
          <p:spPr>
            <a:xfrm>
              <a:off x="7772400" y="3043080"/>
              <a:ext cx="1371600" cy="873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14" name=""/>
            <p:cNvGraphicFramePr/>
            <p:nvPr/>
          </p:nvGraphicFramePr>
          <p:xfrm>
            <a:off x="1055520" y="1041480"/>
            <a:ext cx="1382760" cy="406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55520" y="1041480"/>
                      <a:ext cx="138276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6" name=""/>
            <p:cNvGraphicFramePr/>
            <p:nvPr/>
          </p:nvGraphicFramePr>
          <p:xfrm>
            <a:off x="1219320" y="2171880"/>
            <a:ext cx="1008000" cy="520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1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19320" y="2171880"/>
                      <a:ext cx="1008000" cy="5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8" name=""/>
            <p:cNvGraphicFramePr/>
            <p:nvPr/>
          </p:nvGraphicFramePr>
          <p:xfrm>
            <a:off x="3141720" y="3340080"/>
            <a:ext cx="287280" cy="39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1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141720" y="334008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0" name=""/>
            <p:cNvGraphicFramePr/>
            <p:nvPr/>
          </p:nvGraphicFramePr>
          <p:xfrm>
            <a:off x="3294000" y="3568680"/>
            <a:ext cx="287280" cy="393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2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94000" y="356868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2" name=""/>
            <p:cNvGraphicFramePr/>
            <p:nvPr/>
          </p:nvGraphicFramePr>
          <p:xfrm>
            <a:off x="6480000" y="3319560"/>
            <a:ext cx="303480" cy="4143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2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480000" y="3319560"/>
                      <a:ext cx="30348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4" name=""/>
            <p:cNvGraphicFramePr/>
            <p:nvPr/>
          </p:nvGraphicFramePr>
          <p:xfrm>
            <a:off x="2989440" y="3568680"/>
            <a:ext cx="287280" cy="3938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989440" y="356868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6" name=""/>
            <p:cNvGraphicFramePr/>
            <p:nvPr/>
          </p:nvGraphicFramePr>
          <p:xfrm>
            <a:off x="6632640" y="3548160"/>
            <a:ext cx="301680" cy="414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2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632640" y="3548160"/>
                      <a:ext cx="30168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8" name=""/>
            <p:cNvGraphicFramePr/>
            <p:nvPr/>
          </p:nvGraphicFramePr>
          <p:xfrm>
            <a:off x="6342120" y="3556080"/>
            <a:ext cx="287280" cy="3934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329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342120" y="3556080"/>
                      <a:ext cx="2872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330" name="" descr=""/>
            <p:cNvPicPr/>
            <p:nvPr/>
          </p:nvPicPr>
          <p:blipFill>
            <a:blip r:embed="rId21"/>
            <a:stretch/>
          </p:blipFill>
          <p:spPr>
            <a:xfrm>
              <a:off x="3505320" y="3041640"/>
              <a:ext cx="1439640" cy="91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" descr=""/>
            <p:cNvPicPr/>
            <p:nvPr/>
          </p:nvPicPr>
          <p:blipFill>
            <a:blip r:embed="rId22"/>
            <a:stretch/>
          </p:blipFill>
          <p:spPr>
            <a:xfrm>
              <a:off x="4876920" y="3041640"/>
              <a:ext cx="143964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1752480" y="2743200"/>
              <a:ext cx="1800" cy="114300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114800" y="5257800"/>
              <a:ext cx="4419720" cy="16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iesgo y Responsabilidad del Compra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tratar seguro hasta punto de destino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fectuar el despacho de Import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2680" y="4078440"/>
              <a:ext cx="150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Vende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486920" y="4002120"/>
              <a:ext cx="170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mpra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156360" y="4581360"/>
              <a:ext cx="1440" cy="689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4114800"/>
              <a:ext cx="6858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57600" y="4114800"/>
              <a:ext cx="1440" cy="53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24480" y="4114800"/>
              <a:ext cx="1800" cy="53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24480" y="4114800"/>
              <a:ext cx="6858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657160" y="4130640"/>
              <a:ext cx="1002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uerto 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mbarqu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301080" y="4130640"/>
              <a:ext cx="95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uerto 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estin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102040" y="2819520"/>
              <a:ext cx="794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uan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xport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78960" y="2759040"/>
              <a:ext cx="794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uan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ort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23880" y="3886200"/>
              <a:ext cx="457200" cy="144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46" name="" descr=""/>
            <p:cNvPicPr/>
            <p:nvPr/>
          </p:nvPicPr>
          <p:blipFill>
            <a:blip r:embed="rId23"/>
            <a:stretch/>
          </p:blipFill>
          <p:spPr>
            <a:xfrm>
              <a:off x="838080" y="1447920"/>
              <a:ext cx="1555920" cy="6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 flipV="1">
              <a:off x="3809880" y="4570200"/>
              <a:ext cx="1800" cy="6886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04920" y="5257800"/>
              <a:ext cx="3504960" cy="14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54240" y="5257800"/>
              <a:ext cx="3306240" cy="15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iesgo del Vende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tratar Transporte hasta pun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e destin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tregar en el lugar convenid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fectuar despacho de Expor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03800" y="2317680"/>
              <a:ext cx="1800" cy="609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03920" y="198108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P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726240" y="990720"/>
              <a:ext cx="258408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Precio Mercancía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cluye Fletes hasta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unto de destino,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niobras de carga en el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ugar convenid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y Despacho de Expor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28B5-9CB3-45E8-9365-EA9B7478B34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228240" y="76320"/>
            <a:ext cx="7924680" cy="670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te, Seguro Pagado Hasta ( indicando el punto de destino convenido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po de Transporte 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do tipo de transpor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 del Vendedor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atar y pagar el transporte de la mercancía hasta el lugar conven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ctuar el despacho de exportación de la mercanc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atar una póliza de seguro de protección de la mercancía en el transporte por una cobertura mínima y por un importe mínimo del 110% de su val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 del Comprad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4691160" y="1415880"/>
          <a:ext cx="947520" cy="4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1160" y="1415880"/>
                    <a:ext cx="947520" cy="4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"/>
          <p:cNvGraphicFramePr/>
          <p:nvPr/>
        </p:nvGraphicFramePr>
        <p:xfrm>
          <a:off x="6176880" y="1373040"/>
          <a:ext cx="1290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6880" y="1373040"/>
                    <a:ext cx="1290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"/>
          <p:cNvGraphicFramePr/>
          <p:nvPr/>
        </p:nvGraphicFramePr>
        <p:xfrm>
          <a:off x="2732040" y="1463760"/>
          <a:ext cx="1224000" cy="36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32040" y="1463760"/>
                    <a:ext cx="122400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1251000" y="1398600"/>
          <a:ext cx="966600" cy="506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51000" y="1398600"/>
                    <a:ext cx="96660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6DCC-6F48-4FA2-92AD-160C3C2BF59E}" type="slidenum">
              <a:t>13</a:t>
            </a:fld>
          </a:p>
        </p:txBody>
      </p:sp>
    </p:spTree>
  </p:cSld>
  <p:transition spd="slow">
    <p:cover dir="rd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3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500"/>
                            </p:stCondLst>
                            <p:childTnLst>
                              <p:par>
                                <p:cTn id="414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500"/>
                            </p:stCondLst>
                            <p:childTnLst>
                              <p:par>
                                <p:cTn id="420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"/>
          <p:cNvGrpSpPr/>
          <p:nvPr/>
        </p:nvGrpSpPr>
        <p:grpSpPr>
          <a:xfrm>
            <a:off x="2160" y="131760"/>
            <a:ext cx="9287640" cy="6726960"/>
            <a:chOff x="2160" y="131760"/>
            <a:chExt cx="9287640" cy="6726960"/>
          </a:xfrm>
        </p:grpSpPr>
        <p:pic>
          <p:nvPicPr>
            <p:cNvPr id="363" name="" descr=""/>
            <p:cNvPicPr/>
            <p:nvPr/>
          </p:nvPicPr>
          <p:blipFill>
            <a:blip r:embed="rId1"/>
            <a:stretch/>
          </p:blipFill>
          <p:spPr>
            <a:xfrm>
              <a:off x="55440" y="3027240"/>
              <a:ext cx="144792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1617480" y="131760"/>
              <a:ext cx="572508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CI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RANSFERENCIA DE LA RESPONSABILIDA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35840" y="5284800"/>
              <a:ext cx="2606400" cy="302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66" name="" descr=""/>
            <p:cNvPicPr/>
            <p:nvPr/>
          </p:nvPicPr>
          <p:blipFill>
            <a:blip r:embed="rId2"/>
            <a:stretch/>
          </p:blipFill>
          <p:spPr>
            <a:xfrm>
              <a:off x="2036880" y="3362400"/>
              <a:ext cx="838080" cy="58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3"/>
            <a:stretch/>
          </p:blipFill>
          <p:spPr>
            <a:xfrm>
              <a:off x="6913440" y="3382920"/>
              <a:ext cx="838440" cy="58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4"/>
            <a:stretch/>
          </p:blipFill>
          <p:spPr>
            <a:xfrm>
              <a:off x="7751880" y="3098880"/>
              <a:ext cx="1371600" cy="8730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69" name=""/>
            <p:cNvGraphicFramePr/>
            <p:nvPr/>
          </p:nvGraphicFramePr>
          <p:xfrm>
            <a:off x="1035000" y="1096920"/>
            <a:ext cx="1382760" cy="406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7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35000" y="1096920"/>
                      <a:ext cx="138276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1" name=""/>
            <p:cNvGraphicFramePr/>
            <p:nvPr/>
          </p:nvGraphicFramePr>
          <p:xfrm>
            <a:off x="1198440" y="2227320"/>
            <a:ext cx="1008360" cy="520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7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98440" y="2227320"/>
                      <a:ext cx="1008360" cy="5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3" name=""/>
            <p:cNvGraphicFramePr/>
            <p:nvPr/>
          </p:nvGraphicFramePr>
          <p:xfrm>
            <a:off x="3121200" y="3395520"/>
            <a:ext cx="287280" cy="39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7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121200" y="339552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5" name=""/>
            <p:cNvGraphicFramePr/>
            <p:nvPr/>
          </p:nvGraphicFramePr>
          <p:xfrm>
            <a:off x="3273480" y="3624120"/>
            <a:ext cx="287280" cy="393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7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73480" y="362412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7" name=""/>
            <p:cNvGraphicFramePr/>
            <p:nvPr/>
          </p:nvGraphicFramePr>
          <p:xfrm>
            <a:off x="6459480" y="3375000"/>
            <a:ext cx="303120" cy="4143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78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459480" y="3375000"/>
                      <a:ext cx="30312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9" name=""/>
            <p:cNvGraphicFramePr/>
            <p:nvPr/>
          </p:nvGraphicFramePr>
          <p:xfrm>
            <a:off x="2968560" y="3624120"/>
            <a:ext cx="287280" cy="3938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80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968560" y="362412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1" name=""/>
            <p:cNvGraphicFramePr/>
            <p:nvPr/>
          </p:nvGraphicFramePr>
          <p:xfrm>
            <a:off x="6611760" y="3603600"/>
            <a:ext cx="301680" cy="414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82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611760" y="3603600"/>
                      <a:ext cx="30168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3" name=""/>
            <p:cNvGraphicFramePr/>
            <p:nvPr/>
          </p:nvGraphicFramePr>
          <p:xfrm>
            <a:off x="6321600" y="3611520"/>
            <a:ext cx="287280" cy="3938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384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321600" y="361152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385" name="" descr=""/>
            <p:cNvPicPr/>
            <p:nvPr/>
          </p:nvPicPr>
          <p:blipFill>
            <a:blip r:embed="rId21"/>
            <a:stretch/>
          </p:blipFill>
          <p:spPr>
            <a:xfrm>
              <a:off x="3484440" y="3097080"/>
              <a:ext cx="1440000" cy="91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" descr=""/>
            <p:cNvPicPr/>
            <p:nvPr/>
          </p:nvPicPr>
          <p:blipFill>
            <a:blip r:embed="rId22"/>
            <a:stretch/>
          </p:blipFill>
          <p:spPr>
            <a:xfrm>
              <a:off x="4856040" y="3097080"/>
              <a:ext cx="144000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1731960" y="2798640"/>
              <a:ext cx="1440" cy="114300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148360" y="5437080"/>
              <a:ext cx="3995640" cy="14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iesgo y Responsabilidad del Compra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fectuar el despacho de Import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60" y="4133880"/>
              <a:ext cx="150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Vende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466040" y="4057560"/>
              <a:ext cx="170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mpra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135840" y="4637160"/>
              <a:ext cx="1440" cy="689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951280" y="4170240"/>
              <a:ext cx="68580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637080" y="4170240"/>
              <a:ext cx="1440" cy="53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303960" y="4170240"/>
              <a:ext cx="1440" cy="53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303960" y="4170240"/>
              <a:ext cx="68580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36640" y="4186080"/>
              <a:ext cx="1002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uerto 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mbarqu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80560" y="4186080"/>
              <a:ext cx="95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uerto 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estin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081520" y="2874960"/>
              <a:ext cx="794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uan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xport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58440" y="2814480"/>
              <a:ext cx="794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uan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ort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503360" y="3941640"/>
              <a:ext cx="457200" cy="180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01" name="" descr=""/>
            <p:cNvPicPr/>
            <p:nvPr/>
          </p:nvPicPr>
          <p:blipFill>
            <a:blip r:embed="rId23"/>
            <a:stretch/>
          </p:blipFill>
          <p:spPr>
            <a:xfrm>
              <a:off x="817560" y="1503360"/>
              <a:ext cx="1555920" cy="6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 flipV="1">
              <a:off x="5867280" y="4653000"/>
              <a:ext cx="1800" cy="689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250920" y="5300280"/>
              <a:ext cx="5583240" cy="126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7960" y="5313240"/>
              <a:ext cx="3072960" cy="15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iesgo del Vende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tratar Transporte y Segur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asta punto de destin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tregar en el lugar convenid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fectuar despacho de Expor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083280" y="2373480"/>
              <a:ext cx="1440" cy="609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788080" y="203688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I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705720" y="1046160"/>
              <a:ext cx="258408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Precio Mercancía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cluye Fletes y Segur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asta punto de destino,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niobras de carga en el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ugar convenid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y Despacho de Expor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4E6D-A547-416A-9383-26DBA39F55C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848720" cy="629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76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ctr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ctr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ega sobre Buque ( indicando el puerto de destino convenid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po de Transporte 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íti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 del Vendedor 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gir y contratar el buque, pagar el flete y soportar todos los riesgos del viaje marítimo hasta el puerto de desti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ctuar el despacho de exportación de la mercanc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 del Comprador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umir los gastos y riesgos a bordo del buque, en el momento y en el punto de descarga en el puerto de desti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3662280" y="1959120"/>
          <a:ext cx="12906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2280" y="1959120"/>
                    <a:ext cx="1290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A8C9-A787-4D20-AFE3-0377A511596B}" type="slidenum">
              <a:t>15</a:t>
            </a:fld>
          </a:p>
        </p:txBody>
      </p:sp>
    </p:spTree>
  </p:cSld>
  <p:transition spd="slow">
    <p:cover dir="rd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4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4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3600" y="76320"/>
            <a:ext cx="9214560" cy="6479280"/>
            <a:chOff x="3600" y="76320"/>
            <a:chExt cx="9214560" cy="6479280"/>
          </a:xfrm>
        </p:grpSpPr>
        <p:pic>
          <p:nvPicPr>
            <p:cNvPr id="412" name="" descr=""/>
            <p:cNvPicPr/>
            <p:nvPr/>
          </p:nvPicPr>
          <p:blipFill>
            <a:blip r:embed="rId1"/>
            <a:stretch/>
          </p:blipFill>
          <p:spPr>
            <a:xfrm>
              <a:off x="75960" y="2970720"/>
              <a:ext cx="1447200" cy="90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1636920" y="76320"/>
              <a:ext cx="572508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D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RANSFERENCIA DE LA RESPONSABILIDA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94440" y="5256360"/>
              <a:ext cx="2666520" cy="10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15" name="" descr=""/>
            <p:cNvPicPr/>
            <p:nvPr/>
          </p:nvPicPr>
          <p:blipFill>
            <a:blip r:embed="rId2"/>
            <a:stretch/>
          </p:blipFill>
          <p:spPr>
            <a:xfrm>
              <a:off x="2056680" y="3305520"/>
              <a:ext cx="837720" cy="58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" descr=""/>
            <p:cNvPicPr/>
            <p:nvPr/>
          </p:nvPicPr>
          <p:blipFill>
            <a:blip r:embed="rId3"/>
            <a:stretch/>
          </p:blipFill>
          <p:spPr>
            <a:xfrm>
              <a:off x="6932880" y="3326400"/>
              <a:ext cx="837720" cy="58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4"/>
            <a:stretch/>
          </p:blipFill>
          <p:spPr>
            <a:xfrm>
              <a:off x="7770600" y="3042000"/>
              <a:ext cx="1371240" cy="8730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18" name=""/>
            <p:cNvGraphicFramePr/>
            <p:nvPr/>
          </p:nvGraphicFramePr>
          <p:xfrm>
            <a:off x="1055160" y="1041120"/>
            <a:ext cx="1382400" cy="406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1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55160" y="1041120"/>
                      <a:ext cx="1382400" cy="40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0" name=""/>
            <p:cNvGraphicFramePr/>
            <p:nvPr/>
          </p:nvGraphicFramePr>
          <p:xfrm>
            <a:off x="1218960" y="2171160"/>
            <a:ext cx="1007640" cy="520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18960" y="2171160"/>
                      <a:ext cx="1007640" cy="52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2" name=""/>
            <p:cNvGraphicFramePr/>
            <p:nvPr/>
          </p:nvGraphicFramePr>
          <p:xfrm>
            <a:off x="3141000" y="3339000"/>
            <a:ext cx="286920" cy="393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2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141000" y="3339000"/>
                      <a:ext cx="28692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4" name=""/>
            <p:cNvGraphicFramePr/>
            <p:nvPr/>
          </p:nvGraphicFramePr>
          <p:xfrm>
            <a:off x="3293280" y="3567600"/>
            <a:ext cx="286920" cy="393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93280" y="3567600"/>
                      <a:ext cx="28692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6" name=""/>
            <p:cNvGraphicFramePr/>
            <p:nvPr/>
          </p:nvGraphicFramePr>
          <p:xfrm>
            <a:off x="6478560" y="3318480"/>
            <a:ext cx="303120" cy="414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2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478560" y="3318480"/>
                      <a:ext cx="303120" cy="41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8" name=""/>
            <p:cNvGraphicFramePr/>
            <p:nvPr/>
          </p:nvGraphicFramePr>
          <p:xfrm>
            <a:off x="2988720" y="3567600"/>
            <a:ext cx="286920" cy="393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2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988720" y="3567600"/>
                      <a:ext cx="28692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0" name=""/>
            <p:cNvGraphicFramePr/>
            <p:nvPr/>
          </p:nvGraphicFramePr>
          <p:xfrm>
            <a:off x="6631200" y="3547080"/>
            <a:ext cx="301320" cy="4140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43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631200" y="3547080"/>
                      <a:ext cx="301320" cy="41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2" name=""/>
            <p:cNvGraphicFramePr/>
            <p:nvPr/>
          </p:nvGraphicFramePr>
          <p:xfrm>
            <a:off x="6340680" y="3555000"/>
            <a:ext cx="286920" cy="3931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3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340680" y="3555000"/>
                      <a:ext cx="286920" cy="39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34" name="" descr=""/>
            <p:cNvPicPr/>
            <p:nvPr/>
          </p:nvPicPr>
          <p:blipFill>
            <a:blip r:embed="rId21"/>
            <a:stretch/>
          </p:blipFill>
          <p:spPr>
            <a:xfrm>
              <a:off x="3504600" y="3040560"/>
              <a:ext cx="1439280" cy="91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22"/>
            <a:stretch/>
          </p:blipFill>
          <p:spPr>
            <a:xfrm>
              <a:off x="4875840" y="3040560"/>
              <a:ext cx="1439280" cy="91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1752120" y="2742120"/>
              <a:ext cx="1440" cy="114264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942160" y="5256360"/>
              <a:ext cx="3276000" cy="10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iesgo del Compra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fectuar despacho de Import.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600" y="4077000"/>
              <a:ext cx="150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Vende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469280" y="4000680"/>
              <a:ext cx="170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mpra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6094440" y="4569120"/>
              <a:ext cx="1440" cy="6883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971080" y="4113360"/>
              <a:ext cx="685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656880" y="4113360"/>
              <a:ext cx="1080" cy="53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323040" y="4113360"/>
              <a:ext cx="1440" cy="53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23040" y="4113360"/>
              <a:ext cx="685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66520" y="4129200"/>
              <a:ext cx="1002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uerto 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mbarqu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310440" y="4129200"/>
              <a:ext cx="95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uerto 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estin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100600" y="2818440"/>
              <a:ext cx="794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uan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xport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976800" y="2757960"/>
              <a:ext cx="794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uan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ort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523520" y="3885120"/>
              <a:ext cx="456840" cy="108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50" name="" descr=""/>
            <p:cNvPicPr/>
            <p:nvPr/>
          </p:nvPicPr>
          <p:blipFill>
            <a:blip r:embed="rId23"/>
            <a:stretch/>
          </p:blipFill>
          <p:spPr>
            <a:xfrm>
              <a:off x="837720" y="1447200"/>
              <a:ext cx="1555560" cy="59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 flipV="1">
              <a:off x="5865840" y="4569120"/>
              <a:ext cx="1440" cy="6883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04560" y="5256360"/>
              <a:ext cx="5560920" cy="10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26520" y="5256360"/>
              <a:ext cx="5594040" cy="12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iesgo y Responsabilidad del Vende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tratar Transporte y Seguro hasta puerto de destin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tregar a bordo del buque en puerto de destin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fectuar despacho de Expor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102360" y="2316960"/>
              <a:ext cx="1440" cy="609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812920" y="198036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05360" y="990360"/>
              <a:ext cx="24955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Precio Mercancía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cluye Fletes, Maniobr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y Seguro hasta puerto d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estino, y Despacho de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xpor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4679-FBC4-4A1F-BBB3-3391F9C258B9}" type="slidenum">
              <a:t>16</a:t>
            </a:fld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685440" y="75960"/>
            <a:ext cx="8077320" cy="6476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rega en muelle de destino con los derechos pagados (indicando puerto de destino 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po de Transporte 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ítim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 del Vendedor 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egar la mercancía a disposición del Comprador sobre el Muelle del puerto de destino convenido, soportando hasta ese momento los gastos y riesgos inherentes a la mism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00 - Efectuar el despacho de Exportación de la mercancí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 del Comprador 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portar todo riesgo de pérdida o daño de la mercancía desde el momento en que el vendedor la ha puesto a  disposición en el Muelle del Puerto de destino conveni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00 - Efectuar el despacho de importación de la mercancí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3890880" y="1754280"/>
          <a:ext cx="12906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0880" y="1754280"/>
                    <a:ext cx="1290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3181-6BCB-4E2E-AB43-27A8968419A6}" type="slidenum">
              <a:t>17</a:t>
            </a:fld>
          </a:p>
        </p:txBody>
      </p:sp>
    </p:spTree>
  </p:cSld>
  <p:transition spd="slow">
    <p:cover dir="rd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4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4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3600" y="76320"/>
            <a:ext cx="9170280" cy="6845040"/>
            <a:chOff x="3600" y="76320"/>
            <a:chExt cx="9170280" cy="6845040"/>
          </a:xfrm>
        </p:grpSpPr>
        <p:pic>
          <p:nvPicPr>
            <p:cNvPr id="461" name="" descr=""/>
            <p:cNvPicPr/>
            <p:nvPr/>
          </p:nvPicPr>
          <p:blipFill>
            <a:blip r:embed="rId1"/>
            <a:stretch/>
          </p:blipFill>
          <p:spPr>
            <a:xfrm>
              <a:off x="75960" y="2970720"/>
              <a:ext cx="1447200" cy="90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1636920" y="76320"/>
              <a:ext cx="572508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DEQ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RANSFERENCIA DE LA RESPONSABILIDA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780240" y="5256360"/>
              <a:ext cx="1980720" cy="10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64" name="" descr=""/>
            <p:cNvPicPr/>
            <p:nvPr/>
          </p:nvPicPr>
          <p:blipFill>
            <a:blip r:embed="rId2"/>
            <a:stretch/>
          </p:blipFill>
          <p:spPr>
            <a:xfrm>
              <a:off x="2056680" y="3305520"/>
              <a:ext cx="837720" cy="58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" descr=""/>
            <p:cNvPicPr/>
            <p:nvPr/>
          </p:nvPicPr>
          <p:blipFill>
            <a:blip r:embed="rId3"/>
            <a:stretch/>
          </p:blipFill>
          <p:spPr>
            <a:xfrm>
              <a:off x="6932880" y="3326400"/>
              <a:ext cx="837720" cy="58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" descr=""/>
            <p:cNvPicPr/>
            <p:nvPr/>
          </p:nvPicPr>
          <p:blipFill>
            <a:blip r:embed="rId4"/>
            <a:stretch/>
          </p:blipFill>
          <p:spPr>
            <a:xfrm>
              <a:off x="7770600" y="3042000"/>
              <a:ext cx="1371240" cy="8730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67" name=""/>
            <p:cNvGraphicFramePr/>
            <p:nvPr/>
          </p:nvGraphicFramePr>
          <p:xfrm>
            <a:off x="1055160" y="1041120"/>
            <a:ext cx="1382400" cy="406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6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55160" y="1041120"/>
                      <a:ext cx="1382400" cy="40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9" name=""/>
            <p:cNvGraphicFramePr/>
            <p:nvPr/>
          </p:nvGraphicFramePr>
          <p:xfrm>
            <a:off x="1218960" y="2171160"/>
            <a:ext cx="1007640" cy="520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7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18960" y="2171160"/>
                      <a:ext cx="1007640" cy="52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1" name=""/>
            <p:cNvGraphicFramePr/>
            <p:nvPr/>
          </p:nvGraphicFramePr>
          <p:xfrm>
            <a:off x="3141000" y="3339000"/>
            <a:ext cx="286920" cy="393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7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141000" y="3339000"/>
                      <a:ext cx="28692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3" name=""/>
            <p:cNvGraphicFramePr/>
            <p:nvPr/>
          </p:nvGraphicFramePr>
          <p:xfrm>
            <a:off x="3293280" y="3567600"/>
            <a:ext cx="286920" cy="393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7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93280" y="3567600"/>
                      <a:ext cx="28692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5" name=""/>
            <p:cNvGraphicFramePr/>
            <p:nvPr/>
          </p:nvGraphicFramePr>
          <p:xfrm>
            <a:off x="6478560" y="3318480"/>
            <a:ext cx="303120" cy="414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76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478560" y="3318480"/>
                      <a:ext cx="303120" cy="41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7" name=""/>
            <p:cNvGraphicFramePr/>
            <p:nvPr/>
          </p:nvGraphicFramePr>
          <p:xfrm>
            <a:off x="2988720" y="3567600"/>
            <a:ext cx="286920" cy="393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7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988720" y="3567600"/>
                      <a:ext cx="28692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9" name=""/>
            <p:cNvGraphicFramePr/>
            <p:nvPr/>
          </p:nvGraphicFramePr>
          <p:xfrm>
            <a:off x="6631200" y="3547080"/>
            <a:ext cx="301320" cy="4140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48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631200" y="3547080"/>
                      <a:ext cx="301320" cy="41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1" name=""/>
            <p:cNvGraphicFramePr/>
            <p:nvPr/>
          </p:nvGraphicFramePr>
          <p:xfrm>
            <a:off x="6340680" y="3555000"/>
            <a:ext cx="286920" cy="3931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82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340680" y="3555000"/>
                      <a:ext cx="286920" cy="39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83" name="" descr=""/>
            <p:cNvPicPr/>
            <p:nvPr/>
          </p:nvPicPr>
          <p:blipFill>
            <a:blip r:embed="rId21"/>
            <a:stretch/>
          </p:blipFill>
          <p:spPr>
            <a:xfrm>
              <a:off x="3504600" y="3040560"/>
              <a:ext cx="1439280" cy="91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" descr=""/>
            <p:cNvPicPr/>
            <p:nvPr/>
          </p:nvPicPr>
          <p:blipFill>
            <a:blip r:embed="rId22"/>
            <a:stretch/>
          </p:blipFill>
          <p:spPr>
            <a:xfrm>
              <a:off x="4875840" y="3040560"/>
              <a:ext cx="1439280" cy="91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1752120" y="2742480"/>
              <a:ext cx="1440" cy="114264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04280" y="5256360"/>
              <a:ext cx="2208960" cy="16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iesgo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el Compra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fectuar despacho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e Import.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600" y="4077360"/>
              <a:ext cx="150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Vende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469280" y="4001040"/>
              <a:ext cx="170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mpra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971080" y="4113720"/>
              <a:ext cx="685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656880" y="4113720"/>
              <a:ext cx="1080" cy="53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23040" y="4113720"/>
              <a:ext cx="1440" cy="53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23040" y="4113720"/>
              <a:ext cx="685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666520" y="4129560"/>
              <a:ext cx="1002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uerto 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mbarqu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310440" y="4129560"/>
              <a:ext cx="95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uerto 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estin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100600" y="2818440"/>
              <a:ext cx="794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uan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xport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76800" y="2758320"/>
              <a:ext cx="794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uan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ort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523520" y="3885120"/>
              <a:ext cx="456840" cy="108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98" name="" descr=""/>
            <p:cNvPicPr/>
            <p:nvPr/>
          </p:nvPicPr>
          <p:blipFill>
            <a:blip r:embed="rId23"/>
            <a:stretch/>
          </p:blipFill>
          <p:spPr>
            <a:xfrm>
              <a:off x="837720" y="1447200"/>
              <a:ext cx="1555560" cy="59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 flipV="1">
              <a:off x="6551640" y="4721040"/>
              <a:ext cx="1440" cy="536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560" y="5256360"/>
              <a:ext cx="6246720" cy="10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19920" y="5256360"/>
              <a:ext cx="5594040" cy="12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iesgo y Responsabilidad del Vende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tratar Transporte y Seguro hasta puerto de destin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tregar al costado del buque en puerto de destin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fectuar despacho de Expor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613560" y="2666160"/>
              <a:ext cx="1440" cy="609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324480" y="232956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E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707880" y="990360"/>
              <a:ext cx="24148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Precio Mercancía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cluye Fletes y Seguro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asta puerto de destino,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niobras de descarg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y Despacho de Expor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6780240" y="4721040"/>
              <a:ext cx="1440" cy="536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152280" y="76320"/>
            <a:ext cx="7925040" cy="713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76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ctr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ega Derechos no Pagados (indicando el lugar de destin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po de Transporte 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do ti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 del Vendedor 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regar la mercancía a disposición del Comprador en el lugar convenido en el país importad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isfacer los gastos de transporte, incluidas las operaciones de carga y descarg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 del Comprador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umir por su cuenta los riesgos de pérdida o daño de la mercancía desde que el vendedor la pone a disposición en el lugar convenid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ctuar el despacho de importación de las mercancí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1631880" y="1474920"/>
          <a:ext cx="966960" cy="50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1474920"/>
                    <a:ext cx="966960" cy="5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3132000" y="1557360"/>
          <a:ext cx="1224000" cy="36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1557360"/>
                    <a:ext cx="122400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5148360" y="1425600"/>
          <a:ext cx="947520" cy="48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48360" y="1425600"/>
                    <a:ext cx="94752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6710400" y="1425600"/>
          <a:ext cx="1290600" cy="379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0400" y="1425600"/>
                    <a:ext cx="1290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2AF0-367F-459B-9556-B65758DE4EEE}" type="slidenum">
              <a:t>19</a:t>
            </a:fld>
          </a:p>
        </p:txBody>
      </p:sp>
    </p:spTree>
  </p:cSld>
  <p:transition spd="slow">
    <p:cover dir="rd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5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9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3" dur="5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7" dur="500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1" dur="500"/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5" dur="500"/>
                                        <p:tgtEl>
                                          <p:spTgt spid="5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9" dur="500"/>
                                        <p:tgtEl>
                                          <p:spTgt spid="5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3" dur="500"/>
                                        <p:tgtEl>
                                          <p:spTgt spid="5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7" dur="500"/>
                                        <p:tgtEl>
                                          <p:spTgt spid="5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5400" y="133200"/>
            <a:ext cx="9168120" cy="6724080"/>
            <a:chOff x="5400" y="133200"/>
            <a:chExt cx="9168120" cy="672408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58680" y="3028680"/>
              <a:ext cx="144720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1620360" y="133200"/>
              <a:ext cx="572508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EXW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RANSFERENCIA DE LA RESPONSABILIDA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73080" y="5238360"/>
              <a:ext cx="7695720" cy="18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2039760" y="3363480"/>
              <a:ext cx="837720" cy="58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6916680" y="3384360"/>
              <a:ext cx="837720" cy="58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7754760" y="3099960"/>
              <a:ext cx="1371240" cy="873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6" name=""/>
            <p:cNvGraphicFramePr/>
            <p:nvPr/>
          </p:nvGraphicFramePr>
          <p:xfrm>
            <a:off x="1037880" y="1098360"/>
            <a:ext cx="1382400" cy="406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37880" y="1098360"/>
                      <a:ext cx="138240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01680" y="2228760"/>
            <a:ext cx="1007640" cy="520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01680" y="2228760"/>
                      <a:ext cx="1007640" cy="5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3124080" y="3396960"/>
            <a:ext cx="286920" cy="39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124080" y="3396960"/>
                      <a:ext cx="28692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3276360" y="3625560"/>
            <a:ext cx="286920" cy="393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76360" y="3625560"/>
                      <a:ext cx="28692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6462360" y="3376440"/>
            <a:ext cx="303120" cy="4143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462360" y="3376440"/>
                      <a:ext cx="30312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971800" y="3625560"/>
            <a:ext cx="286920" cy="3938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971800" y="3625560"/>
                      <a:ext cx="28692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6615000" y="3605040"/>
            <a:ext cx="301320" cy="414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615000" y="3605040"/>
                      <a:ext cx="30132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3612960"/>
            <a:ext cx="286920" cy="3934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324480" y="3612960"/>
                      <a:ext cx="28692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2" name="" descr=""/>
            <p:cNvPicPr/>
            <p:nvPr/>
          </p:nvPicPr>
          <p:blipFill>
            <a:blip r:embed="rId21"/>
            <a:stretch/>
          </p:blipFill>
          <p:spPr>
            <a:xfrm>
              <a:off x="3487680" y="3098520"/>
              <a:ext cx="1439280" cy="91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2"/>
            <a:stretch/>
          </p:blipFill>
          <p:spPr>
            <a:xfrm>
              <a:off x="4859280" y="3098520"/>
              <a:ext cx="143928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734840" y="2800080"/>
              <a:ext cx="1440" cy="114300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336760" y="5314680"/>
              <a:ext cx="5798160" cy="15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iesgo y Responsabilidad del Compra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coger la mercancía en el local del vended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tratar Transporte y Seguro de la mercancía hasta destin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fectuar el despacho de Exportación e Import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00" y="4135320"/>
              <a:ext cx="150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Vende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68920" y="4059000"/>
              <a:ext cx="170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mpra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973080" y="4551120"/>
              <a:ext cx="1080" cy="689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54160" y="4171680"/>
              <a:ext cx="6854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639960" y="4171680"/>
              <a:ext cx="1080" cy="53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06840" y="4171680"/>
              <a:ext cx="1440" cy="53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06840" y="4171680"/>
              <a:ext cx="6854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639520" y="4187520"/>
              <a:ext cx="1002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uerto 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mbarqu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83440" y="4187520"/>
              <a:ext cx="95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uerto 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estin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84400" y="2876400"/>
              <a:ext cx="794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uan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xport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961320" y="2815920"/>
              <a:ext cx="794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uan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ort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06240" y="3943080"/>
              <a:ext cx="456840" cy="144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23"/>
            <a:stretch/>
          </p:blipFill>
          <p:spPr>
            <a:xfrm>
              <a:off x="820440" y="1504800"/>
              <a:ext cx="1555560" cy="6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7216560" y="1199880"/>
              <a:ext cx="1807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4480" y="2647800"/>
              <a:ext cx="1080" cy="609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8840" y="2311200"/>
              <a:ext cx="64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X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6ACC-AE58-4729-8227-1CC0B1DEEF1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"/>
          <p:cNvGrpSpPr/>
          <p:nvPr/>
        </p:nvGrpSpPr>
        <p:grpSpPr>
          <a:xfrm>
            <a:off x="2160" y="0"/>
            <a:ext cx="9502200" cy="7346160"/>
            <a:chOff x="2160" y="0"/>
            <a:chExt cx="9502200" cy="7346160"/>
          </a:xfrm>
        </p:grpSpPr>
        <p:sp>
          <p:nvSpPr>
            <p:cNvPr id="516" name=""/>
            <p:cNvSpPr/>
            <p:nvPr/>
          </p:nvSpPr>
          <p:spPr>
            <a:xfrm>
              <a:off x="7523280" y="5181480"/>
              <a:ext cx="1981080" cy="21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iesgo de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mpra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fectuar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espacho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e Import.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17" name="" descr=""/>
            <p:cNvPicPr/>
            <p:nvPr/>
          </p:nvPicPr>
          <p:blipFill>
            <a:blip r:embed="rId1"/>
            <a:stretch/>
          </p:blipFill>
          <p:spPr>
            <a:xfrm>
              <a:off x="55800" y="2895480"/>
              <a:ext cx="144756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"/>
            <p:cNvSpPr/>
            <p:nvPr/>
          </p:nvSpPr>
          <p:spPr>
            <a:xfrm>
              <a:off x="1617480" y="0"/>
              <a:ext cx="572508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DD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RANSFERENCIA DE LA RESPONSABILIDA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523280" y="5181480"/>
              <a:ext cx="1219320" cy="14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0" name="" descr=""/>
            <p:cNvPicPr/>
            <p:nvPr/>
          </p:nvPicPr>
          <p:blipFill>
            <a:blip r:embed="rId2"/>
            <a:stretch/>
          </p:blipFill>
          <p:spPr>
            <a:xfrm>
              <a:off x="2036880" y="3230280"/>
              <a:ext cx="838080" cy="58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" descr=""/>
            <p:cNvPicPr/>
            <p:nvPr/>
          </p:nvPicPr>
          <p:blipFill>
            <a:blip r:embed="rId3"/>
            <a:stretch/>
          </p:blipFill>
          <p:spPr>
            <a:xfrm>
              <a:off x="6913800" y="3251160"/>
              <a:ext cx="838080" cy="58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" descr=""/>
            <p:cNvPicPr/>
            <p:nvPr/>
          </p:nvPicPr>
          <p:blipFill>
            <a:blip r:embed="rId4"/>
            <a:stretch/>
          </p:blipFill>
          <p:spPr>
            <a:xfrm>
              <a:off x="7751880" y="2966760"/>
              <a:ext cx="1371600" cy="873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23" name=""/>
            <p:cNvGraphicFramePr/>
            <p:nvPr/>
          </p:nvGraphicFramePr>
          <p:xfrm>
            <a:off x="1035000" y="965160"/>
            <a:ext cx="1382760" cy="406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2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35000" y="965160"/>
                      <a:ext cx="138276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5" name=""/>
            <p:cNvGraphicFramePr/>
            <p:nvPr/>
          </p:nvGraphicFramePr>
          <p:xfrm>
            <a:off x="1198800" y="2095560"/>
            <a:ext cx="1008000" cy="520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2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98800" y="2095560"/>
                      <a:ext cx="1008000" cy="5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7" name=""/>
            <p:cNvGraphicFramePr/>
            <p:nvPr/>
          </p:nvGraphicFramePr>
          <p:xfrm>
            <a:off x="3121200" y="3263760"/>
            <a:ext cx="287280" cy="39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2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121200" y="326376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9" name=""/>
            <p:cNvGraphicFramePr/>
            <p:nvPr/>
          </p:nvGraphicFramePr>
          <p:xfrm>
            <a:off x="3273480" y="3492360"/>
            <a:ext cx="287280" cy="393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3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73480" y="349236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1" name=""/>
            <p:cNvGraphicFramePr/>
            <p:nvPr/>
          </p:nvGraphicFramePr>
          <p:xfrm>
            <a:off x="6459480" y="3243240"/>
            <a:ext cx="303480" cy="4143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3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459480" y="3243240"/>
                      <a:ext cx="30348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3" name=""/>
            <p:cNvGraphicFramePr/>
            <p:nvPr/>
          </p:nvGraphicFramePr>
          <p:xfrm>
            <a:off x="2968920" y="3492360"/>
            <a:ext cx="287280" cy="3938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34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968920" y="349236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5" name=""/>
            <p:cNvGraphicFramePr/>
            <p:nvPr/>
          </p:nvGraphicFramePr>
          <p:xfrm>
            <a:off x="6612120" y="3471840"/>
            <a:ext cx="301680" cy="414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536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612120" y="3471840"/>
                      <a:ext cx="30168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7" name=""/>
            <p:cNvGraphicFramePr/>
            <p:nvPr/>
          </p:nvGraphicFramePr>
          <p:xfrm>
            <a:off x="6321600" y="3479760"/>
            <a:ext cx="287280" cy="3934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538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321600" y="3479760"/>
                      <a:ext cx="2872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39" name="" descr=""/>
            <p:cNvPicPr/>
            <p:nvPr/>
          </p:nvPicPr>
          <p:blipFill>
            <a:blip r:embed="rId21"/>
            <a:stretch/>
          </p:blipFill>
          <p:spPr>
            <a:xfrm>
              <a:off x="3484800" y="2965320"/>
              <a:ext cx="1439640" cy="91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" descr=""/>
            <p:cNvPicPr/>
            <p:nvPr/>
          </p:nvPicPr>
          <p:blipFill>
            <a:blip r:embed="rId22"/>
            <a:stretch/>
          </p:blipFill>
          <p:spPr>
            <a:xfrm>
              <a:off x="4856400" y="2965320"/>
              <a:ext cx="143964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"/>
            <p:cNvSpPr/>
            <p:nvPr/>
          </p:nvSpPr>
          <p:spPr>
            <a:xfrm>
              <a:off x="1731960" y="2666880"/>
              <a:ext cx="1800" cy="114300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160" y="4002120"/>
              <a:ext cx="150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Vende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466400" y="3925800"/>
              <a:ext cx="170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mpra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7523280" y="4493880"/>
              <a:ext cx="1440" cy="6886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951280" y="4038480"/>
              <a:ext cx="6858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637080" y="4038480"/>
              <a:ext cx="1440" cy="53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303960" y="4038480"/>
              <a:ext cx="1800" cy="53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303960" y="4038480"/>
              <a:ext cx="6858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636640" y="4054320"/>
              <a:ext cx="1002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uerto 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mbarqu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80560" y="4054320"/>
              <a:ext cx="95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uerto 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estin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081520" y="2743200"/>
              <a:ext cx="794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uan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xport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958440" y="2682720"/>
              <a:ext cx="794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uan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ort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503360" y="3809880"/>
              <a:ext cx="457200" cy="144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54" name="" descr=""/>
            <p:cNvPicPr/>
            <p:nvPr/>
          </p:nvPicPr>
          <p:blipFill>
            <a:blip r:embed="rId23"/>
            <a:stretch/>
          </p:blipFill>
          <p:spPr>
            <a:xfrm>
              <a:off x="817560" y="1371600"/>
              <a:ext cx="1555920" cy="6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flipV="1">
              <a:off x="7294680" y="4493880"/>
              <a:ext cx="1440" cy="6886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84400" y="5181480"/>
              <a:ext cx="7010280" cy="14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154160" y="5181480"/>
              <a:ext cx="6038640" cy="12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iesgo y Responsabilidad del Vende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tratar Transporte y Seguro hasta punto de destin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tregar después de cruzar la frontera sin Despacho de Impor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fectuar despacho de Expor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13800" y="2590560"/>
              <a:ext cx="1440" cy="609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534440" y="225396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DU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53320" y="914400"/>
              <a:ext cx="23601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Precio Mercancía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cluye Fletes y Seguro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asta punto de destino,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y Despacho de Expor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761760" y="152280"/>
            <a:ext cx="7924680" cy="642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76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D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ctr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rega en destino con derechos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ctr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 indicando el lugar de destino convenido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po de Transporte 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do ti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 del Vendedor 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egar la mercancía, por su cuenta,  a disposición del Comprador, en el lugar de destino convenido en el país del Importador, incluidas las maniobras de descarg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fectuar el despacho de exportación e importación de la mercancí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resenta la máxima obligación para el vended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 del Comprador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portar los riesgos y gastos que ocurran después de recibida la mercancía en el lugar conveni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6862680" y="1830240"/>
          <a:ext cx="12906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2680" y="1830240"/>
                    <a:ext cx="1290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4" name=""/>
          <p:cNvGraphicFramePr/>
          <p:nvPr/>
        </p:nvGraphicFramePr>
        <p:xfrm>
          <a:off x="5224320" y="1873080"/>
          <a:ext cx="947880" cy="48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24320" y="1873080"/>
                    <a:ext cx="947880" cy="4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3189240" y="1920960"/>
          <a:ext cx="1224000" cy="36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89240" y="1920960"/>
                    <a:ext cx="122400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"/>
          <p:cNvGraphicFramePr/>
          <p:nvPr/>
        </p:nvGraphicFramePr>
        <p:xfrm>
          <a:off x="1555920" y="1855800"/>
          <a:ext cx="966600" cy="506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55920" y="1855800"/>
                    <a:ext cx="96660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B44A-43CF-4BC2-8288-4B8D7E7B9AEF}" type="slidenum">
              <a:t>21</a:t>
            </a:fld>
          </a:p>
        </p:txBody>
      </p:sp>
    </p:spTree>
  </p:cSld>
  <p:transition spd="slow">
    <p:cover dir="rd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4" dur="50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8" dur="50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2" dur="500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0" dur="500"/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4" dur="500"/>
                                        <p:tgtEl>
                                          <p:spTgt spid="5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8" dur="500"/>
                                        <p:tgtEl>
                                          <p:spTgt spid="5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2" dur="500"/>
                                        <p:tgtEl>
                                          <p:spTgt spid="5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6" dur="500"/>
                                        <p:tgtEl>
                                          <p:spTgt spid="5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"/>
          <p:cNvGrpSpPr/>
          <p:nvPr/>
        </p:nvGrpSpPr>
        <p:grpSpPr>
          <a:xfrm>
            <a:off x="3600" y="76320"/>
            <a:ext cx="9170280" cy="6479280"/>
            <a:chOff x="3600" y="76320"/>
            <a:chExt cx="9170280" cy="6479280"/>
          </a:xfrm>
        </p:grpSpPr>
        <p:pic>
          <p:nvPicPr>
            <p:cNvPr id="571" name="" descr=""/>
            <p:cNvPicPr/>
            <p:nvPr/>
          </p:nvPicPr>
          <p:blipFill>
            <a:blip r:embed="rId1"/>
            <a:stretch/>
          </p:blipFill>
          <p:spPr>
            <a:xfrm>
              <a:off x="75960" y="2970720"/>
              <a:ext cx="1447200" cy="90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1636920" y="76320"/>
              <a:ext cx="572508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DD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RANSFERENCIA DE LA RESPONSABILIDA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73" name="" descr=""/>
            <p:cNvPicPr/>
            <p:nvPr/>
          </p:nvPicPr>
          <p:blipFill>
            <a:blip r:embed="rId2"/>
            <a:stretch/>
          </p:blipFill>
          <p:spPr>
            <a:xfrm>
              <a:off x="2056680" y="3305520"/>
              <a:ext cx="837720" cy="58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" descr=""/>
            <p:cNvPicPr/>
            <p:nvPr/>
          </p:nvPicPr>
          <p:blipFill>
            <a:blip r:embed="rId3"/>
            <a:stretch/>
          </p:blipFill>
          <p:spPr>
            <a:xfrm>
              <a:off x="6932880" y="3326400"/>
              <a:ext cx="837720" cy="58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" descr=""/>
            <p:cNvPicPr/>
            <p:nvPr/>
          </p:nvPicPr>
          <p:blipFill>
            <a:blip r:embed="rId4"/>
            <a:stretch/>
          </p:blipFill>
          <p:spPr>
            <a:xfrm>
              <a:off x="7770600" y="3042000"/>
              <a:ext cx="1371240" cy="8730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76" name=""/>
            <p:cNvGraphicFramePr/>
            <p:nvPr/>
          </p:nvGraphicFramePr>
          <p:xfrm>
            <a:off x="1055160" y="1041120"/>
            <a:ext cx="1382400" cy="406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7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55160" y="1041120"/>
                      <a:ext cx="1382400" cy="40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8" name=""/>
            <p:cNvGraphicFramePr/>
            <p:nvPr/>
          </p:nvGraphicFramePr>
          <p:xfrm>
            <a:off x="1218960" y="2171160"/>
            <a:ext cx="1007640" cy="520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7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18960" y="2171160"/>
                      <a:ext cx="1007640" cy="52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0" name=""/>
            <p:cNvGraphicFramePr/>
            <p:nvPr/>
          </p:nvGraphicFramePr>
          <p:xfrm>
            <a:off x="3141000" y="3339000"/>
            <a:ext cx="286920" cy="393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8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141000" y="3339000"/>
                      <a:ext cx="28692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2" name=""/>
            <p:cNvGraphicFramePr/>
            <p:nvPr/>
          </p:nvGraphicFramePr>
          <p:xfrm>
            <a:off x="3293280" y="3567600"/>
            <a:ext cx="286920" cy="393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8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93280" y="3567600"/>
                      <a:ext cx="28692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4" name=""/>
            <p:cNvGraphicFramePr/>
            <p:nvPr/>
          </p:nvGraphicFramePr>
          <p:xfrm>
            <a:off x="6478560" y="3318480"/>
            <a:ext cx="303120" cy="414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8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478560" y="3318480"/>
                      <a:ext cx="303120" cy="41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6" name=""/>
            <p:cNvGraphicFramePr/>
            <p:nvPr/>
          </p:nvGraphicFramePr>
          <p:xfrm>
            <a:off x="2988720" y="3567600"/>
            <a:ext cx="286920" cy="393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8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988720" y="3567600"/>
                      <a:ext cx="28692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8" name=""/>
            <p:cNvGraphicFramePr/>
            <p:nvPr/>
          </p:nvGraphicFramePr>
          <p:xfrm>
            <a:off x="6631200" y="3547080"/>
            <a:ext cx="301320" cy="4140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589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631200" y="3547080"/>
                      <a:ext cx="301320" cy="41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0" name=""/>
            <p:cNvGraphicFramePr/>
            <p:nvPr/>
          </p:nvGraphicFramePr>
          <p:xfrm>
            <a:off x="6340680" y="3555000"/>
            <a:ext cx="286920" cy="3931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591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340680" y="3555000"/>
                      <a:ext cx="286920" cy="39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92" name="" descr=""/>
            <p:cNvPicPr/>
            <p:nvPr/>
          </p:nvPicPr>
          <p:blipFill>
            <a:blip r:embed="rId21"/>
            <a:stretch/>
          </p:blipFill>
          <p:spPr>
            <a:xfrm>
              <a:off x="3504600" y="3040560"/>
              <a:ext cx="1439280" cy="91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" descr=""/>
            <p:cNvPicPr/>
            <p:nvPr/>
          </p:nvPicPr>
          <p:blipFill>
            <a:blip r:embed="rId22"/>
            <a:stretch/>
          </p:blipFill>
          <p:spPr>
            <a:xfrm>
              <a:off x="4875840" y="3040560"/>
              <a:ext cx="1439280" cy="91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1752120" y="2742120"/>
              <a:ext cx="1440" cy="114264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600" y="4077000"/>
              <a:ext cx="150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Vende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469280" y="4000680"/>
              <a:ext cx="170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mpra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971080" y="4113360"/>
              <a:ext cx="685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656880" y="4113360"/>
              <a:ext cx="1080" cy="53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323040" y="4113360"/>
              <a:ext cx="1440" cy="53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323040" y="4113360"/>
              <a:ext cx="685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666520" y="4129200"/>
              <a:ext cx="1002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uerto 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mbarqu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310440" y="4129200"/>
              <a:ext cx="95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uerto 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estin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100600" y="2818440"/>
              <a:ext cx="794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uan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xport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76800" y="2757960"/>
              <a:ext cx="794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uan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ort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523520" y="3885120"/>
              <a:ext cx="456840" cy="108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06" name="" descr=""/>
            <p:cNvPicPr/>
            <p:nvPr/>
          </p:nvPicPr>
          <p:blipFill>
            <a:blip r:embed="rId23"/>
            <a:stretch/>
          </p:blipFill>
          <p:spPr>
            <a:xfrm>
              <a:off x="837720" y="1447200"/>
              <a:ext cx="1555560" cy="59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 flipV="1">
              <a:off x="8380080" y="4569120"/>
              <a:ext cx="1440" cy="6883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09120" y="5256360"/>
              <a:ext cx="7770600" cy="10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119600" y="5256360"/>
              <a:ext cx="6797880" cy="12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iesgo y Responsabilidad del Vende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tratar Transporte y Seguro hasta punto de destin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tregar en punto convenido en país de destino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fectuar despacho de Export. y Despacho de Import. en país de destin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442000" y="2666160"/>
              <a:ext cx="1440" cy="609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153280" y="232956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D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706440" y="990360"/>
              <a:ext cx="23601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Precio Mercancía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cluye Fletes y Seguro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asta punto de destino,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espacho de Export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y Despacho de Impor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B288-30EC-42BA-A317-754A9E35B3F7}" type="slidenum">
              <a:t>22</a:t>
            </a:fld>
          </a:p>
        </p:txBody>
      </p:sp>
    </p:spTree>
  </p:cSld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915400" cy="644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F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bre al costado del Barco (indicando puerto de embarque convenid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ipo de Transporte 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íti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bligaciones del Vendedor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tregar la mercancía en el lugar designado por el comprador en el puerto convenido. (Al costado del buque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fectuar el despacho de exportación de la mercancí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bligaciones del Comprador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legir Empresa Naviera y dar nombre del Buque al Vended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gar flete y  soportar el riesgo de la mercancía desde que el vendedor la entrega al costado del Buqu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Obtener licencias para importa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fectuar el despacho de importación de la mercancí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890880" y="1830240"/>
          <a:ext cx="12906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0880" y="1830240"/>
                    <a:ext cx="1290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78AE-1A3D-48E1-B2F2-2A498CA39570}" type="slidenum">
              <a:t>3</a:t>
            </a:fld>
          </a:p>
        </p:txBody>
      </p:sp>
    </p:spTree>
  </p:cSld>
  <p:transition spd="slow">
    <p:cover dir="r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3600" y="76320"/>
            <a:ext cx="9443160" cy="6722640"/>
            <a:chOff x="3600" y="76320"/>
            <a:chExt cx="9443160" cy="6722640"/>
          </a:xfrm>
        </p:grpSpPr>
        <p:sp>
          <p:nvSpPr>
            <p:cNvPr id="106" name=""/>
            <p:cNvSpPr/>
            <p:nvPr/>
          </p:nvSpPr>
          <p:spPr>
            <a:xfrm>
              <a:off x="3428280" y="5256360"/>
              <a:ext cx="6018480" cy="15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iesgo y Responsabilidad del Compra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ubir la mercancía al buqu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tratar Transporte y Seguro hasta destin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fectuar el despacho de Import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75960" y="2971080"/>
              <a:ext cx="1447200" cy="90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636920" y="76320"/>
              <a:ext cx="572508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FA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RANSFERENCIA DE LA RESPONSABILIDA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28280" y="5256360"/>
              <a:ext cx="5333040" cy="10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2056680" y="3305880"/>
              <a:ext cx="837720" cy="58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6932880" y="3326760"/>
              <a:ext cx="837720" cy="58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4"/>
            <a:stretch/>
          </p:blipFill>
          <p:spPr>
            <a:xfrm>
              <a:off x="7770600" y="3042360"/>
              <a:ext cx="1371240" cy="8730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13" name=""/>
            <p:cNvGraphicFramePr/>
            <p:nvPr/>
          </p:nvGraphicFramePr>
          <p:xfrm>
            <a:off x="1055160" y="1041120"/>
            <a:ext cx="1382400" cy="406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55160" y="1041120"/>
                      <a:ext cx="1382400" cy="40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5" name=""/>
            <p:cNvGraphicFramePr/>
            <p:nvPr/>
          </p:nvGraphicFramePr>
          <p:xfrm>
            <a:off x="1218960" y="2171160"/>
            <a:ext cx="1007640" cy="520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18960" y="2171160"/>
                      <a:ext cx="1007640" cy="52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7" name=""/>
            <p:cNvGraphicFramePr/>
            <p:nvPr/>
          </p:nvGraphicFramePr>
          <p:xfrm>
            <a:off x="3141000" y="3339360"/>
            <a:ext cx="286920" cy="393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141000" y="3339360"/>
                      <a:ext cx="28692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9" name=""/>
            <p:cNvGraphicFramePr/>
            <p:nvPr/>
          </p:nvGraphicFramePr>
          <p:xfrm>
            <a:off x="3293280" y="3567600"/>
            <a:ext cx="286920" cy="393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93280" y="3567600"/>
                      <a:ext cx="28692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1" name=""/>
            <p:cNvGraphicFramePr/>
            <p:nvPr/>
          </p:nvGraphicFramePr>
          <p:xfrm>
            <a:off x="6478560" y="3318840"/>
            <a:ext cx="303120" cy="414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478560" y="3318840"/>
                      <a:ext cx="303120" cy="41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3" name=""/>
            <p:cNvGraphicFramePr/>
            <p:nvPr/>
          </p:nvGraphicFramePr>
          <p:xfrm>
            <a:off x="2988720" y="3567600"/>
            <a:ext cx="286920" cy="393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988720" y="3567600"/>
                      <a:ext cx="28692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5" name=""/>
            <p:cNvGraphicFramePr/>
            <p:nvPr/>
          </p:nvGraphicFramePr>
          <p:xfrm>
            <a:off x="6631200" y="3547080"/>
            <a:ext cx="301320" cy="4140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631200" y="3547080"/>
                      <a:ext cx="301320" cy="41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" name=""/>
            <p:cNvGraphicFramePr/>
            <p:nvPr/>
          </p:nvGraphicFramePr>
          <p:xfrm>
            <a:off x="6340680" y="3555000"/>
            <a:ext cx="286920" cy="3931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28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340680" y="3555000"/>
                      <a:ext cx="286920" cy="39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9" name="" descr=""/>
            <p:cNvPicPr/>
            <p:nvPr/>
          </p:nvPicPr>
          <p:blipFill>
            <a:blip r:embed="rId21"/>
            <a:stretch/>
          </p:blipFill>
          <p:spPr>
            <a:xfrm>
              <a:off x="3504600" y="3040920"/>
              <a:ext cx="1439280" cy="91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2"/>
            <a:stretch/>
          </p:blipFill>
          <p:spPr>
            <a:xfrm>
              <a:off x="4875840" y="3040920"/>
              <a:ext cx="1439280" cy="91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752120" y="2742480"/>
              <a:ext cx="1440" cy="114264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" y="4077360"/>
              <a:ext cx="150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Vende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69640" y="4001040"/>
              <a:ext cx="170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mpra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428280" y="4569480"/>
              <a:ext cx="1080" cy="6883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71080" y="4113720"/>
              <a:ext cx="685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6880" y="4113720"/>
              <a:ext cx="1080" cy="53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23040" y="4113720"/>
              <a:ext cx="1440" cy="53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23040" y="4113720"/>
              <a:ext cx="685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66520" y="4129560"/>
              <a:ext cx="1002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uerto 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mbarqu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10440" y="4129560"/>
              <a:ext cx="95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uerto 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estin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00600" y="2818800"/>
              <a:ext cx="794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uan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xport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976800" y="2758320"/>
              <a:ext cx="794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uan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ort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23520" y="3885120"/>
              <a:ext cx="456840" cy="108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23"/>
            <a:stretch/>
          </p:blipFill>
          <p:spPr>
            <a:xfrm>
              <a:off x="837720" y="1447560"/>
              <a:ext cx="1555560" cy="59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6704640" y="1142640"/>
              <a:ext cx="24620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Precio Mercancía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cluye Fletes y  Segur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l costado del buque 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cluye Despacho de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xpor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3199680" y="4569480"/>
              <a:ext cx="1080" cy="6883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4560" y="5256360"/>
              <a:ext cx="2894760" cy="10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3280" y="5256360"/>
              <a:ext cx="3022920" cy="12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iesgo del Vende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tregar mercancía 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stado del buqu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fectuar despacho de Expor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315600" y="2590200"/>
              <a:ext cx="1080" cy="609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11400" y="225360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770C-5C52-4D11-917D-7EBD0C102D96}" type="slidenum">
              <a:t>4</a:t>
            </a:fld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7772400" cy="624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76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bre a Bordo ( indicando el puerto de embarque convenid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po de Transporte 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aríti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 del Vendedor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regar la mercancía a bordo del buque elegido por el Comprador en el puerto de embarque conven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ctuar el despacho de exportación de la mercanc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 del Comprador 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ar y reservar el Buqu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r con los gastos y riesgos inherentes a la  mercancía desde que traspasa la borda del buq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967200" y="2211480"/>
          <a:ext cx="12906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0" y="2211480"/>
                    <a:ext cx="1290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95E5-0227-4706-8322-38F4DB0C49D9}" type="slidenum">
              <a:t>5</a:t>
            </a:fld>
          </a:p>
        </p:txBody>
      </p:sp>
    </p:spTree>
  </p:cSld>
  <p:transition spd="slow">
    <p:cover dir="r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3600" y="76320"/>
            <a:ext cx="9170280" cy="6845040"/>
            <a:chOff x="3600" y="76320"/>
            <a:chExt cx="9170280" cy="6845040"/>
          </a:xfrm>
        </p:grpSpPr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75960" y="2970720"/>
              <a:ext cx="1447200" cy="90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1636920" y="76320"/>
              <a:ext cx="572508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FO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RANSFERENCIA DE LA RESPONSABILIDA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7400" y="5256360"/>
              <a:ext cx="4723560" cy="10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2056680" y="3305520"/>
              <a:ext cx="837720" cy="58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3"/>
            <a:stretch/>
          </p:blipFill>
          <p:spPr>
            <a:xfrm>
              <a:off x="6932880" y="3326400"/>
              <a:ext cx="837720" cy="58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4"/>
            <a:stretch/>
          </p:blipFill>
          <p:spPr>
            <a:xfrm>
              <a:off x="7770600" y="3042000"/>
              <a:ext cx="1371240" cy="8730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61" name=""/>
            <p:cNvGraphicFramePr/>
            <p:nvPr/>
          </p:nvGraphicFramePr>
          <p:xfrm>
            <a:off x="1055160" y="1041120"/>
            <a:ext cx="1382400" cy="406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55160" y="1041120"/>
                      <a:ext cx="1382400" cy="40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3" name=""/>
            <p:cNvGraphicFramePr/>
            <p:nvPr/>
          </p:nvGraphicFramePr>
          <p:xfrm>
            <a:off x="1218960" y="2171160"/>
            <a:ext cx="1007640" cy="520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18960" y="2171160"/>
                      <a:ext cx="1007640" cy="52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5" name=""/>
            <p:cNvGraphicFramePr/>
            <p:nvPr/>
          </p:nvGraphicFramePr>
          <p:xfrm>
            <a:off x="3141000" y="3339000"/>
            <a:ext cx="286920" cy="393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141000" y="3339000"/>
                      <a:ext cx="28692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7" name=""/>
            <p:cNvGraphicFramePr/>
            <p:nvPr/>
          </p:nvGraphicFramePr>
          <p:xfrm>
            <a:off x="3293280" y="3567600"/>
            <a:ext cx="286920" cy="393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93280" y="3567600"/>
                      <a:ext cx="28692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9" name=""/>
            <p:cNvGraphicFramePr/>
            <p:nvPr/>
          </p:nvGraphicFramePr>
          <p:xfrm>
            <a:off x="6478560" y="3318480"/>
            <a:ext cx="303120" cy="414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478560" y="3318480"/>
                      <a:ext cx="303120" cy="41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1" name=""/>
            <p:cNvGraphicFramePr/>
            <p:nvPr/>
          </p:nvGraphicFramePr>
          <p:xfrm>
            <a:off x="2988720" y="3567600"/>
            <a:ext cx="286920" cy="393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988720" y="3567600"/>
                      <a:ext cx="28692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3" name=""/>
            <p:cNvGraphicFramePr/>
            <p:nvPr/>
          </p:nvGraphicFramePr>
          <p:xfrm>
            <a:off x="6631200" y="3547080"/>
            <a:ext cx="301320" cy="4140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631200" y="3547080"/>
                      <a:ext cx="301320" cy="41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5" name=""/>
            <p:cNvGraphicFramePr/>
            <p:nvPr/>
          </p:nvGraphicFramePr>
          <p:xfrm>
            <a:off x="6340680" y="3555000"/>
            <a:ext cx="286920" cy="3931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76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340680" y="3555000"/>
                      <a:ext cx="286920" cy="39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77" name="" descr=""/>
            <p:cNvPicPr/>
            <p:nvPr/>
          </p:nvPicPr>
          <p:blipFill>
            <a:blip r:embed="rId21"/>
            <a:stretch/>
          </p:blipFill>
          <p:spPr>
            <a:xfrm>
              <a:off x="3504600" y="3040560"/>
              <a:ext cx="1439280" cy="91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22"/>
            <a:stretch/>
          </p:blipFill>
          <p:spPr>
            <a:xfrm>
              <a:off x="4875840" y="3040560"/>
              <a:ext cx="1439280" cy="91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1752120" y="2742480"/>
              <a:ext cx="1440" cy="114264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13720" y="5256360"/>
              <a:ext cx="4418640" cy="16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iesgo y Responsabilidad del Compra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tratar Transporte y Seguro hasta destin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fectuar el despacho de Import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00" y="4077360"/>
              <a:ext cx="150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Vende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469280" y="4001040"/>
              <a:ext cx="170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mpra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4037400" y="4569120"/>
              <a:ext cx="1440" cy="6883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71080" y="4113720"/>
              <a:ext cx="685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56880" y="4113720"/>
              <a:ext cx="1080" cy="53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3040" y="4113720"/>
              <a:ext cx="1440" cy="53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23040" y="4113720"/>
              <a:ext cx="685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666520" y="4129560"/>
              <a:ext cx="1002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uerto 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mbarqu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10440" y="4129560"/>
              <a:ext cx="95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uerto 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estin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00600" y="2818440"/>
              <a:ext cx="794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uan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xport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76800" y="2758320"/>
              <a:ext cx="794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uan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ort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23520" y="3885120"/>
              <a:ext cx="456840" cy="108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93" name="" descr=""/>
            <p:cNvPicPr/>
            <p:nvPr/>
          </p:nvPicPr>
          <p:blipFill>
            <a:blip r:embed="rId23"/>
            <a:stretch/>
          </p:blipFill>
          <p:spPr>
            <a:xfrm>
              <a:off x="837720" y="1447200"/>
              <a:ext cx="1555560" cy="59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6706440" y="1142640"/>
              <a:ext cx="23601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Precio Mercancía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cluye Fletes, Seguros,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niobras hasta cruza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a borda del buqu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y Despacho de Expor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3808800" y="4569120"/>
              <a:ext cx="1440" cy="6883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4560" y="5256360"/>
              <a:ext cx="3504240" cy="10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2200" y="5256360"/>
              <a:ext cx="3196440" cy="12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iesgo del Vende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tregar mercancía cruzando l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“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borda” del buqu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fectuar despacho de Expor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16800" y="2316960"/>
              <a:ext cx="1440" cy="609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15120" y="1980360"/>
              <a:ext cx="60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O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09480" y="609480"/>
            <a:ext cx="7848720" cy="61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76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&amp;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ctr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y Flete ( indicando puerto de destino convenid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po de Transporte 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íti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 del Vendedor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atar el buque, siendo por su cuenta el flete y la carga hasta el puerto de desti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ctuar el despacho de exportación de la mercanc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 del Comprador 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portar cualquier gasto adicional y riesgo de pérdida o deterioro y su reclamación y seguimiento desde que la mercancía traspasa la borda del buque en el puerto de embarque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662280" y="2035080"/>
          <a:ext cx="12906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2280" y="2035080"/>
                    <a:ext cx="1290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92B8-88B4-4A8E-A032-0D504805F140}" type="slidenum">
              <a:t>7</a:t>
            </a:fld>
          </a:p>
        </p:txBody>
      </p:sp>
    </p:spTree>
  </p:cSld>
  <p:transition spd="slow">
    <p:cover dir="r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2160" y="0"/>
            <a:ext cx="9168480" cy="6846480"/>
            <a:chOff x="2160" y="0"/>
            <a:chExt cx="9168480" cy="6846480"/>
          </a:xfrm>
        </p:grpSpPr>
        <p:pic>
          <p:nvPicPr>
            <p:cNvPr id="204" name="" descr=""/>
            <p:cNvPicPr/>
            <p:nvPr/>
          </p:nvPicPr>
          <p:blipFill>
            <a:blip r:embed="rId1"/>
            <a:stretch/>
          </p:blipFill>
          <p:spPr>
            <a:xfrm>
              <a:off x="55440" y="2895480"/>
              <a:ext cx="144792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1617480" y="0"/>
              <a:ext cx="572508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C&amp;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RANSFERENCIA DE LA RESPONSABILIDA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919840" y="5153040"/>
              <a:ext cx="2822400" cy="302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2"/>
            <a:stretch/>
          </p:blipFill>
          <p:spPr>
            <a:xfrm>
              <a:off x="2036880" y="3230640"/>
              <a:ext cx="838080" cy="58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3"/>
            <a:stretch/>
          </p:blipFill>
          <p:spPr>
            <a:xfrm>
              <a:off x="6913440" y="3251160"/>
              <a:ext cx="838440" cy="58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4"/>
            <a:stretch/>
          </p:blipFill>
          <p:spPr>
            <a:xfrm>
              <a:off x="7751880" y="2967120"/>
              <a:ext cx="1371600" cy="8730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10" name=""/>
            <p:cNvGraphicFramePr/>
            <p:nvPr/>
          </p:nvGraphicFramePr>
          <p:xfrm>
            <a:off x="1035000" y="965160"/>
            <a:ext cx="1382760" cy="406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35000" y="965160"/>
                      <a:ext cx="138276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2" name=""/>
            <p:cNvGraphicFramePr/>
            <p:nvPr/>
          </p:nvGraphicFramePr>
          <p:xfrm>
            <a:off x="1198440" y="2095560"/>
            <a:ext cx="1008360" cy="520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98440" y="2095560"/>
                      <a:ext cx="1008360" cy="5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4" name=""/>
            <p:cNvGraphicFramePr/>
            <p:nvPr/>
          </p:nvGraphicFramePr>
          <p:xfrm>
            <a:off x="3121200" y="3263760"/>
            <a:ext cx="287280" cy="39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121200" y="326376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6" name=""/>
            <p:cNvGraphicFramePr/>
            <p:nvPr/>
          </p:nvGraphicFramePr>
          <p:xfrm>
            <a:off x="3273480" y="3492360"/>
            <a:ext cx="287280" cy="393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1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73480" y="349236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8" name=""/>
            <p:cNvGraphicFramePr/>
            <p:nvPr/>
          </p:nvGraphicFramePr>
          <p:xfrm>
            <a:off x="6459480" y="3243240"/>
            <a:ext cx="303120" cy="4143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459480" y="3243240"/>
                      <a:ext cx="30312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0" name=""/>
            <p:cNvGraphicFramePr/>
            <p:nvPr/>
          </p:nvGraphicFramePr>
          <p:xfrm>
            <a:off x="2968560" y="3492360"/>
            <a:ext cx="287280" cy="3938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21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968560" y="349236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2" name=""/>
            <p:cNvGraphicFramePr/>
            <p:nvPr/>
          </p:nvGraphicFramePr>
          <p:xfrm>
            <a:off x="6611760" y="3471840"/>
            <a:ext cx="301680" cy="414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23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611760" y="3471840"/>
                      <a:ext cx="30168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4" name=""/>
            <p:cNvGraphicFramePr/>
            <p:nvPr/>
          </p:nvGraphicFramePr>
          <p:xfrm>
            <a:off x="6321600" y="3479760"/>
            <a:ext cx="287280" cy="3938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321600" y="347976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26" name="" descr=""/>
            <p:cNvPicPr/>
            <p:nvPr/>
          </p:nvPicPr>
          <p:blipFill>
            <a:blip r:embed="rId21"/>
            <a:stretch/>
          </p:blipFill>
          <p:spPr>
            <a:xfrm>
              <a:off x="3484440" y="2965320"/>
              <a:ext cx="1440000" cy="91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22"/>
            <a:stretch/>
          </p:blipFill>
          <p:spPr>
            <a:xfrm>
              <a:off x="4856040" y="2965320"/>
              <a:ext cx="144000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1731960" y="2666880"/>
              <a:ext cx="1440" cy="114300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94280" y="5181480"/>
              <a:ext cx="5029200" cy="16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iesgo y Responsabilidad del Compra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tratar seguro hasta puerto de destino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fectuar el despacho de Import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60" y="4002120"/>
              <a:ext cx="150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Vende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466040" y="3925800"/>
              <a:ext cx="170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mpra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5919840" y="4505400"/>
              <a:ext cx="1440" cy="689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51280" y="4038480"/>
              <a:ext cx="68580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37080" y="4038480"/>
              <a:ext cx="1440" cy="53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03960" y="4038480"/>
              <a:ext cx="1440" cy="53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303960" y="4038480"/>
              <a:ext cx="68580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36640" y="4054320"/>
              <a:ext cx="1002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uerto 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mbarqu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80560" y="4054320"/>
              <a:ext cx="95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uerto 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estin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81520" y="2743200"/>
              <a:ext cx="794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uan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xport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58440" y="2682720"/>
              <a:ext cx="794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uan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ort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503360" y="3809880"/>
              <a:ext cx="457200" cy="180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2" name="" descr=""/>
            <p:cNvPicPr/>
            <p:nvPr/>
          </p:nvPicPr>
          <p:blipFill>
            <a:blip r:embed="rId23"/>
            <a:stretch/>
          </p:blipFill>
          <p:spPr>
            <a:xfrm>
              <a:off x="817560" y="1371600"/>
              <a:ext cx="1555920" cy="6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 flipV="1">
              <a:off x="5724360" y="4508280"/>
              <a:ext cx="1800" cy="6886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0920" y="5157720"/>
              <a:ext cx="547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29400" y="5181480"/>
              <a:ext cx="3373200" cy="15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iesgo del Vende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tratar Transporte hasta puer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e destin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tregar en la “borda” del buqu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fectuar despacho de Expor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83280" y="2241720"/>
              <a:ext cx="1440" cy="609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83400" y="19051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F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07160" y="914400"/>
              <a:ext cx="23022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Precio Mercancía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cluye Fletes hasta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uerto de destino,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niobras hasta cruza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a borda del buqu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y Despacho de Expor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DEA3-2FFB-4E2A-BD1B-953A3BD1E75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85440" y="228600"/>
            <a:ext cx="7924680" cy="632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I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to, Seguro y Flete( indicando el puerto de destino convenid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po de Transporte 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íti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 del Vendedor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atar el buque y pagar el flete y la carga hasta el puerto de desti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ctuar el despacho de exportación de la mercanc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cribir una póliza de seguro de protección de la mercancía en el transporte por cobertura mínima y por un importe mínimo del 110% de su val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 del Comprador 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nque el Vendedor contrata y paga el seguro, la mercancía viaja a riesgo del Comprador, quien es el beneficiario de la póliza por designación directa o por el carácter transferible de la mis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967200" y="1349280"/>
          <a:ext cx="12906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0" y="1349280"/>
                    <a:ext cx="1290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8D18-5BC5-434A-8136-AB3E7ACCAC98}" type="slidenum">
              <a:t>9</a:t>
            </a:fld>
          </a:p>
        </p:txBody>
      </p:sp>
    </p:spTree>
  </p:cSld>
  <p:transition spd="slow">
    <p:cover dir="rd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rencia de Sistemas y Procedim</dc:creator>
  <dc:description/>
  <dc:language>en-US</dc:language>
  <cp:lastModifiedBy>ANA ESQUINAS FERNANDEZ</cp:lastModifiedBy>
  <dcterms:modified xsi:type="dcterms:W3CDTF">2009-11-08T18:03:36Z</dcterms:modified>
  <cp:revision>6</cp:revision>
  <dc:subject/>
  <dc:title>INCOTERMS</dc:title>
</cp:coreProperties>
</file>